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045B-C659-4EF8-871D-E0B6F366539D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CF43-FD90-4E7B-AAC5-2A63AE70EE49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A8F0-F27C-4DDC-B59D-2858B24B140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8001-A6AA-4636-83C1-4A88A429ABC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3BA9-E416-454C-B5C4-FBA0B83056D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E83A-57EA-440C-9A03-B0F54A9D866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FE06-4DF8-4654-AAE5-12C758DBE9C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6981-35E1-44BB-ADB5-0FB12E10DCA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9941-B38C-455A-95A4-7FA829F9F2F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C0C5-4D8E-40FD-8994-348E04EDF27D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7BF8-11C9-45D1-848C-02F2A5B12E5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8B06-D5D8-48BC-BC43-835CB15D9559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61D1-C29C-4173-9268-2A0DB36B9112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74B4-3817-4ACD-8005-7FCCCA31CF6D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37C8-C449-4876-9B93-835F07DE7B1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D4E2-D226-46C9-A69C-F2FC90A15E6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FF04-5120-43F5-AB82-C2415F6662B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29B9-EEFA-4E40-B6F0-148E74BBA74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7FF2-BBBB-40D5-83EE-1E51A870E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E200-8AAD-4123-9B31-1D5D5BA6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E187-3AA2-4A79-93A6-AC20E909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2225-94D8-4C36-9872-B6EDB648F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E755-E6EE-48B4-867F-E37AD535F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2F8A-B5FF-4BE3-9361-90BEC64C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B51F-0BCC-45B9-9357-B3DEDB4C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EB67-D560-4EE1-B434-E3784E7D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1364-B235-4310-A683-A2DECF4A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3CB1-9A57-4668-B8D4-48A25D2D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05EA-9021-4D02-A074-D5D3B01C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9DB9-A888-4126-BC1C-7FF9A7EE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2025-64D6-4A85-A58C-3CE960BB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CFD0-3448-4AB0-93A3-7B218ABF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C816-1D48-49DE-9D8E-0B1A43A8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F0EB-3B79-4B8D-9011-749454817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1087-27EA-4BC1-8061-46902451A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93EAE-6FFB-4253-BCF5-DA3614E85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30D95-7AFA-4BD3-A6B8-89A806DC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CD56E-2751-4D18-947C-C1D6F34E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6E7A7-B000-432D-94EB-923C151F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3B987-F7DA-40CC-A8B9-C91D82B4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6C00-EC19-4F65-A137-015CB581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3010A-F125-47E2-ABBD-8D57BE72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CD403-89C2-41D9-9F8C-51623E32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9164C-73F4-4C41-B091-650DAC9D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4CBC7-E1C3-4DA3-98DA-9AAF6491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CAF7E-1BB7-4E67-949B-50393CA2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36072-7073-49A1-B474-71D3DEE74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EDFBF-4235-440E-A344-3A6C7E2CA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DF592-CBC0-46A3-9F7E-0FF164E18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35C9C-3761-40CA-9B6E-D3076C26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0BBE9-FA19-464D-BA94-4CA1587E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3767-A753-4EA3-8235-8692BAE7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14AD8-157E-4207-8991-4C053CD6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614A2-F5EF-4057-ADCB-3AA3E6B3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08D0C-4F95-46E9-9A00-DB53A0F0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1A548-D89B-4144-A9D4-9FE00AF3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C0712-1B76-46EB-9323-8457EBCB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9F801-7718-48CF-87EF-2B13A1C6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48702-FCCC-4C1E-B903-B0570697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58B5D-D1A1-4DA1-A8D4-CAECEFC7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C842F-21A1-4F28-A8D9-992EEE7DA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83563-D853-4D12-A90D-9013067F8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1525-5781-4F48-A4B9-85524A79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69F1C-CA2D-48E4-9C8E-B06304B3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A42C9-CEF4-4B23-859E-3304249C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8B17A-9B39-42D6-A8DE-5AC07556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9C0D1-1ACF-4622-9FA9-518DB3F3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E3CDB-53F2-4FE0-991A-9DE1E335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C07DB-CB4D-4E3E-9E7F-857C15B7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5DA9F-5423-4917-93D0-C83E5B51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2DD41-0BAB-445F-ADD4-DCAFB101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E1507-80FD-46A5-A6AE-BA2DA861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1BC9B-7E67-4E5C-8FA8-9039595D2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CD80-CC3F-476B-9508-2D632AD7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3B97A-F10C-4C00-A2B0-0F06685B0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B75A0-AB99-4B2D-BCC2-894165464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8C70E-D684-44B3-B35D-EA31356C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8F7C4-31C2-4BAA-AD48-45C78286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83E68-47EC-4A4F-BA47-82E1C12F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2E127-A679-4BB4-90A3-C4A2B80E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7DB7B-2C32-4A82-9D3E-47E4F0EB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24C6A-46EF-49EC-8850-899F889B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F8C2C-38C6-451C-878B-1E4E89C3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DFDC4-3F83-44A5-9FB6-14169EED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1FA0-A0F9-4111-B8A0-ECEB6021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62B16-C811-4786-BA73-1DF68C1B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6D021-E10E-4CE5-B9DB-72A3685CC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7C6AD-B4E5-4B87-914C-3E089EA28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05CF5-4093-4CE0-8D37-F82F2BE08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956B8-3826-4A35-99C7-E11FE9CE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C4DB4-2FBE-43F8-BFA7-D6F394BE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D8F5D-F1E7-4504-8F5B-79E24A47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B47B1-4E3A-42A2-A313-89079ACC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13E0B-DBAF-4B41-BFB8-D6219515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2989A-15D8-433E-B161-929D9152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DD85-51CE-4474-8A1C-4507A9A2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FBB31-F8F7-4FCC-A073-AE37FEE0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96022-B14E-4EBE-805F-8E072CA2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7C963-6443-479F-8ADF-C28EF2EB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DABA4-1488-4D7F-B13F-4F3C59CB5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BA47C-084A-4114-B3E4-A6A05774A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377C-5814-4976-A190-AB31CEBD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022B-76EF-4C3F-963A-A125B385876A}" type="slidenum">
              <a:rPr b="0" lang="uk-UA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2B52-2BB2-4BAA-A7C5-73415F92971B}" type="slidenum">
              <a:rPr b="0" lang="uk-UA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6355-FD37-4C40-B07F-3A3C3A58C616}" type="slidenum">
              <a:rPr b="0" lang="uk-UA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A3EC-DEC3-4FC1-B833-95E281AFEFDE}" type="slidenum">
              <a:rPr b="0" lang="uk-UA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103F-8FAC-469E-8269-D075E04C2E06}" type="slidenum">
              <a:rPr b="0" lang="uk-UA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63BF-24DD-4267-B7B9-1E0CEBD8CCA6}" type="slidenum">
              <a:rPr b="0" lang="uk-UA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4234-0FC8-4A65-9010-97F77C0A380C}" type="slidenum">
              <a:rPr b="0" lang="uk-UA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689040" y="3359160"/>
            <a:ext cx="8076960" cy="16700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Corbel"/>
              </a:rPr>
              <a:t>Академія адвокатури України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Corbel"/>
              </a:rPr>
              <a:t>Магістратур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TextBox 3"/>
          <p:cNvSpPr/>
          <p:nvPr/>
        </p:nvSpPr>
        <p:spPr>
          <a:xfrm>
            <a:off x="6072120" y="571500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Доцент  С.Гончар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30" name="Содержимое 3" descr=""/>
          <p:cNvPicPr/>
          <p:nvPr/>
        </p:nvPicPr>
        <p:blipFill>
          <a:blip r:embed="rId2"/>
          <a:stretch/>
        </p:blipFill>
        <p:spPr>
          <a:xfrm>
            <a:off x="433440" y="1749600"/>
            <a:ext cx="827712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32" name="Содержимое 3" descr=""/>
          <p:cNvPicPr/>
          <p:nvPr/>
        </p:nvPicPr>
        <p:blipFill>
          <a:blip r:embed="rId2"/>
          <a:stretch/>
        </p:blipFill>
        <p:spPr>
          <a:xfrm>
            <a:off x="433440" y="1749600"/>
            <a:ext cx="829620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34" name="Содержимое 3" descr=""/>
          <p:cNvPicPr/>
          <p:nvPr/>
        </p:nvPicPr>
        <p:blipFill>
          <a:blip r:embed="rId2"/>
          <a:stretch/>
        </p:blipFill>
        <p:spPr>
          <a:xfrm>
            <a:off x="407880" y="1547640"/>
            <a:ext cx="830268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714320"/>
            <a:ext cx="8229600" cy="4686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Міністри підтвердили </a:t>
            </a: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зміну дій 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із створення планів на майбутнє на практичне втілення у життя цілей Болонського процесу, а саме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прийняття </a:t>
            </a: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спільної структури кваліфікаційних рівнів 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Зони європейської вищої освіти з обов'язковою розробкою національних структур кваліфікаційних рівнів до 2010 року (початок - 2007 р.)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прийняття </a:t>
            </a: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директив та стандартів забезпечення якості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, створення запиту до 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ENQA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European Association for Quality Assurance in Higher Education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EUA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European University Association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ESIB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European Student Information Bureau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EURASHE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(European Association of Institutions in Higher Education) 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щодо розробки пропозицій стосовно реєстрації агенцій забезпечення якості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подальше наголошення на важливості </a:t>
            </a: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соціального виміру вищої освіти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, що включає академічну мобільність (але не лімітується нею)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необхідність взаємодії між Зоною європейської вищої освіти та іншими частинами світу ("зовнішній вимір")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зростаюча важливість адресації розвитку Зони європейської вищої освіти після 2010 року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rbel"/>
              </a:rPr>
              <a:t>Було запрошено ще 5 країн (Арменія, Азербайджан, Молдова та </a:t>
            </a:r>
            <a:r>
              <a:rPr b="1" lang="uk-UA" sz="2200" spc="-1" strike="noStrike">
                <a:solidFill>
                  <a:srgbClr val="000000"/>
                </a:solidFill>
                <a:latin typeface="Corbel"/>
              </a:rPr>
              <a:t>Україна</a:t>
            </a:r>
            <a:r>
              <a:rPr b="0" lang="uk-UA" sz="2200" spc="-1" strike="noStrike">
                <a:solidFill>
                  <a:srgbClr val="000000"/>
                </a:solidFill>
                <a:latin typeface="Corbel"/>
              </a:rPr>
              <a:t>) як нових країн-учасниць БП. Таким чином, загальна кількість учасників БП зросла до 45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rbel"/>
              </a:rPr>
              <a:t>Було також прийняте рішення розширити коло консультативних членів БП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rbel"/>
              </a:rPr>
              <a:t>Пан-європейської структури міжнародної освіти (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Education International (EI) Pan-European Structure),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rbel"/>
              </a:rPr>
              <a:t>Європейської асоціації забезпечення якості вищої освіти (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the European Association for Quality Assurance in Higher Education (ENQA)) </a:t>
            </a:r>
            <a:r>
              <a:rPr b="0" lang="uk-UA" sz="2200" spc="-1" strike="noStrike">
                <a:solidFill>
                  <a:srgbClr val="000000"/>
                </a:solidFill>
                <a:latin typeface="Corbel"/>
              </a:rPr>
              <a:t>та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rbel"/>
              </a:rPr>
              <a:t>Спілки конфедерацій промисловців та роботодавців Європи (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the Union of Industrial and Employers' Confederations of Europe (UNICE)</a:t>
            </a:r>
            <a:r>
              <a:rPr b="0" lang="uk-UA" sz="2200" spc="-1" strike="noStrike">
                <a:solidFill>
                  <a:srgbClr val="000000"/>
                </a:solidFill>
                <a:latin typeface="Corbe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6828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orbel"/>
              </a:rPr>
              <a:t>Підтверджено позицію, що Болонський процес є всеєвропейською стратегією реформування вищої освіти, що зосереджується на трьох елементах: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orbel"/>
              </a:rPr>
              <a:t>переході європейських вищих навчальних закладів на трьохступеневу структуру (бакалавр - магістр - доктор);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orbel"/>
              </a:rPr>
              <a:t>забезпеченні якості вищої освіти, зокрема створенні незалежних агенцій, що слідкують за якістю вищої освіти у країнах-учасницях,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orbel"/>
              </a:rPr>
              <a:t>визнанні кваліфікацій та періодів навчання, здобутих студентами у різних навчальних закладах Європи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682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000000"/>
                </a:solidFill>
                <a:latin typeface="Corbel"/>
              </a:rPr>
              <a:t>Подальший розвиток: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orbel"/>
              </a:rPr>
              <a:t>Університети потребують: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orbel"/>
              </a:rPr>
              <a:t>модернізації змісту своїх навчальних планів,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orbel"/>
              </a:rPr>
              <a:t>створення віртуальних кампусів та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orbel"/>
              </a:rPr>
              <a:t>реформування своєї моделі управління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orbel"/>
              </a:rPr>
              <a:t>Університети мають забезпечити: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orbel"/>
              </a:rPr>
              <a:t>професіоналізацію менеджменту,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orbel"/>
              </a:rPr>
              <a:t>диверсифікація фінансування та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orbel"/>
              </a:rPr>
              <a:t>відкритість до викладачів нового типу, бізнесу та суспільства у цілому - як європейського, так і неєвропейського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682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rbel"/>
              </a:rPr>
              <a:t>Подальший розвиток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rbel"/>
              </a:rPr>
              <a:t>Окремий акцент зроблено на сприяння реформам вищої освіти, що здійснюються у </a:t>
            </a:r>
            <a:r>
              <a:rPr b="1" lang="uk-UA" sz="2200" spc="-1" strike="noStrike">
                <a:solidFill>
                  <a:srgbClr val="000000"/>
                </a:solidFill>
                <a:latin typeface="Corbel"/>
              </a:rPr>
              <a:t>країнах-сусідах ЄС</a:t>
            </a:r>
            <a:r>
              <a:rPr b="0" lang="uk-UA" sz="2200" spc="-1" strike="noStrike">
                <a:solidFill>
                  <a:srgbClr val="000000"/>
                </a:solidFill>
                <a:latin typeface="Corbel"/>
              </a:rPr>
              <a:t>, зокрема через фінансовий механізм Європейської політики сусідства та програму академічної мобільності 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Erasmus Mundu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rbel"/>
              </a:rPr>
              <a:t>Одним із акцентів зустрічі є надання Болонському процесу </a:t>
            </a:r>
            <a:r>
              <a:rPr b="1" lang="uk-UA" sz="2200" spc="-1" strike="noStrike">
                <a:solidFill>
                  <a:srgbClr val="000000"/>
                </a:solidFill>
                <a:latin typeface="Corbel"/>
              </a:rPr>
              <a:t>глобального виміру</a:t>
            </a:r>
            <a:r>
              <a:rPr b="0" lang="uk-UA" sz="2200" spc="-1" strike="noStrike">
                <a:solidFill>
                  <a:srgbClr val="000000"/>
                </a:solidFill>
                <a:latin typeface="Corbel"/>
              </a:rPr>
              <a:t>. Стратегія, ухвалена на засіданні, спрямована на підвищення привабливості європейських інституцій вищої освіти для студентів і викладачів з інших регіонів, розвиток партнерських стосунків із університетами неєвропейських країн, поліпшення механізмів визнання кваліфікацій та періодів навчанн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14" name="Содержимое 6" descr=""/>
          <p:cNvPicPr/>
          <p:nvPr/>
        </p:nvPicPr>
        <p:blipFill>
          <a:blip r:embed="rId2"/>
          <a:stretch/>
        </p:blipFill>
        <p:spPr>
          <a:xfrm>
            <a:off x="414360" y="1755720"/>
            <a:ext cx="82962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68280"/>
          </a:xfrm>
          <a:prstGeom prst="rect">
            <a:avLst/>
          </a:prstGeom>
          <a:ln w="0">
            <a:noFill/>
          </a:ln>
        </p:spPr>
      </p:pic>
      <p:pic>
        <p:nvPicPr>
          <p:cNvPr id="316" name="Содержимое 3" descr=""/>
          <p:cNvPicPr/>
          <p:nvPr/>
        </p:nvPicPr>
        <p:blipFill>
          <a:blip r:embed="rId2"/>
          <a:stretch/>
        </p:blipFill>
        <p:spPr>
          <a:xfrm>
            <a:off x="433440" y="1773360"/>
            <a:ext cx="8277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68280"/>
          </a:xfrm>
          <a:prstGeom prst="rect">
            <a:avLst/>
          </a:prstGeom>
          <a:ln w="0">
            <a:noFill/>
          </a:ln>
        </p:spPr>
      </p:pic>
      <p:pic>
        <p:nvPicPr>
          <p:cNvPr id="318" name="Содержимое 3" descr=""/>
          <p:cNvPicPr/>
          <p:nvPr/>
        </p:nvPicPr>
        <p:blipFill>
          <a:blip r:embed="rId2"/>
          <a:stretch/>
        </p:blipFill>
        <p:spPr>
          <a:xfrm>
            <a:off x="433440" y="1755720"/>
            <a:ext cx="82771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68280"/>
          </a:xfrm>
          <a:prstGeom prst="rect">
            <a:avLst/>
          </a:prstGeom>
          <a:ln w="0">
            <a:noFill/>
          </a:ln>
        </p:spPr>
      </p:pic>
      <p:pic>
        <p:nvPicPr>
          <p:cNvPr id="320" name="Содержимое 3" descr=""/>
          <p:cNvPicPr/>
          <p:nvPr/>
        </p:nvPicPr>
        <p:blipFill>
          <a:blip r:embed="rId2"/>
          <a:stretch/>
        </p:blipFill>
        <p:spPr>
          <a:xfrm>
            <a:off x="407880" y="1773360"/>
            <a:ext cx="830268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682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6430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4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rbel"/>
              </a:rPr>
              <a:t>Міністри підтвердили потребу в </a:t>
            </a:r>
            <a:r>
              <a:rPr b="1" lang="uk-UA" sz="1600" spc="-1" strike="noStrike">
                <a:solidFill>
                  <a:srgbClr val="000000"/>
                </a:solidFill>
                <a:latin typeface="Corbel"/>
              </a:rPr>
              <a:t>структурі для керування Болонським процесом</a:t>
            </a:r>
            <a:r>
              <a:rPr b="0" lang="uk-UA" sz="1600" spc="-1" strike="noStrike">
                <a:solidFill>
                  <a:srgbClr val="000000"/>
                </a:solidFill>
                <a:latin typeface="Corbel"/>
              </a:rPr>
              <a:t>, що складається з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24800" indent="43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orbel"/>
              </a:rPr>
              <a:t>групи сприяння</a:t>
            </a:r>
            <a:r>
              <a:rPr b="0" lang="uk-UA" sz="1600" spc="-1" strike="noStrike">
                <a:solidFill>
                  <a:srgbClr val="000000"/>
                </a:solidFill>
                <a:latin typeface="Corbel"/>
              </a:rPr>
              <a:t> – з представників усіх країн, що підписали відповідні документи, нових учасників і Європейської комісії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24800" indent="43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rbel"/>
              </a:rPr>
              <a:t>і </a:t>
            </a:r>
            <a:r>
              <a:rPr b="1" lang="uk-UA" sz="1600" spc="-1" strike="noStrike">
                <a:solidFill>
                  <a:srgbClr val="000000"/>
                </a:solidFill>
                <a:latin typeface="Corbel"/>
              </a:rPr>
              <a:t>групи підготовки</a:t>
            </a:r>
            <a:r>
              <a:rPr b="0" lang="uk-UA" sz="1600" spc="-1" strike="noStrike">
                <a:solidFill>
                  <a:srgbClr val="000000"/>
                </a:solidFill>
                <a:latin typeface="Corbel"/>
              </a:rPr>
              <a:t> – з представників країн, які є приймаючими на попередніх і наступних зустрічах на рівні міністрів, двох держав - членів ЄС і двох країн, що не входять у ЄС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24800" indent="4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24800" indent="4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rbel"/>
              </a:rPr>
              <a:t>Європейській асоціації університетів, Європейській асоціації вищих навчальних закладів, Асоціації національних спілок студентів у Європі і Раді Європи необхідно консультуватися щодо стану розвитку процесу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24800" indent="4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rbel"/>
              </a:rPr>
              <a:t>Задля дієвості процесу, міністри просили </a:t>
            </a:r>
            <a:r>
              <a:rPr b="1" lang="uk-UA" sz="1600" spc="-1" strike="noStrike">
                <a:solidFill>
                  <a:srgbClr val="000000"/>
                </a:solidFill>
                <a:latin typeface="Corbel"/>
              </a:rPr>
              <a:t>групу сприяння</a:t>
            </a:r>
            <a:r>
              <a:rPr b="0" lang="uk-UA" sz="1600" spc="-1" strike="noStrike">
                <a:solidFill>
                  <a:srgbClr val="000000"/>
                </a:solidFill>
                <a:latin typeface="Corbel"/>
              </a:rPr>
              <a:t> впорядкувати </a:t>
            </a:r>
            <a:r>
              <a:rPr b="1" lang="uk-UA" sz="1600" spc="-1" strike="noStrike">
                <a:solidFill>
                  <a:srgbClr val="000000"/>
                </a:solidFill>
                <a:latin typeface="Corbel"/>
              </a:rPr>
              <a:t>семінари</a:t>
            </a:r>
            <a:r>
              <a:rPr b="0" lang="uk-UA" sz="1600" spc="-1" strike="noStrike">
                <a:solidFill>
                  <a:srgbClr val="000000"/>
                </a:solidFill>
                <a:latin typeface="Corbel"/>
              </a:rPr>
              <a:t> для проведення досліджень у таких галузях: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24800" indent="43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rbel"/>
              </a:rPr>
              <a:t>співробітництво, що стосується акредитації і забезпечення якості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24800" indent="43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rbel"/>
              </a:rPr>
              <a:t>визнання результатів навчання і використання кредитів у Болонському процесі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24800" indent="43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rbel"/>
              </a:rPr>
              <a:t>розвиток спільних ступенів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24800" indent="43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rbel"/>
              </a:rPr>
              <a:t>соціальні питання, із акцентованою увагою щодо перешкод мобільності, а також розширення Болонського процесу, навчання протягом усього життя і залучення до обговорення студентів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Міністри беруть до уваги 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звіт про стан робіт, доручений Комісії з розвитку Болонського Процесу між Прагою і Берліном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звіт Trends-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III</a:t>
            </a: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, підготовлений Європейською Асоціацією Університетів (EUA)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результати семінарів, організованих як частина робочої програми між Прагою і Берліном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зауваження Європейської Комісії і Ради Європи і визнають їхню підтримку в процесі реалізації Процесу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Міністри  вважають за необхідне спрямовувати зусилля на забезпечення більш тісних </a:t>
            </a: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зв'язків між вищою освітою і дослідницькими системами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 в кожній із країн-учасниць. Загальноєвропейський простір вищої освіти на цьому початковому етапі матиме велику користь від спільної діяльності з європейським дослідницьким простором, зміцнюючи </a:t>
            </a: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фундамент для Європи Знань.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 Метою  є  </a:t>
            </a: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збереження європейського культурного багатства і мовної різноманітності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Міністри визнають </a:t>
            </a: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фундаментальну роль вузів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 і </a:t>
            </a: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студентських організацій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 у розвитку загальноєвропейського простору вищої освіти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26" name="Содержимое 3" descr=""/>
          <p:cNvPicPr/>
          <p:nvPr/>
        </p:nvPicPr>
        <p:blipFill>
          <a:blip r:embed="rId2"/>
          <a:stretch/>
        </p:blipFill>
        <p:spPr>
          <a:xfrm>
            <a:off x="384120" y="1773360"/>
            <a:ext cx="83264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28" name="Содержимое 3" descr=""/>
          <p:cNvPicPr/>
          <p:nvPr/>
        </p:nvPicPr>
        <p:blipFill>
          <a:blip r:embed="rId2"/>
          <a:stretch/>
        </p:blipFill>
        <p:spPr>
          <a:xfrm>
            <a:off x="401760" y="1749600"/>
            <a:ext cx="830880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2T13:37:27Z</dcterms:created>
  <dc:creator>Сережа</dc:creator>
  <dc:description/>
  <dc:language>en-US</dc:language>
  <cp:lastModifiedBy>sgrey</cp:lastModifiedBy>
  <dcterms:modified xsi:type="dcterms:W3CDTF">2010-09-26T20:21:44Z</dcterms:modified>
  <cp:revision>25</cp:revision>
  <dc:subject/>
  <dc:title>Болонський процес</dc:title>
</cp:coreProperties>
</file>