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D44B8-081D-4BAE-A9B4-52B91EB3F5AC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62289-8331-4EDF-B07C-64792E0E4035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A39E8-133B-49B2-A59D-83C05463EFD1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3494F-EBB4-40FC-BD3F-6D00ABA24F43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9921A-555E-43F0-A2D9-BD1681CD6287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53B6A-D5B8-482B-9128-24D3AEE1190C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28434-91B9-41C3-8F92-552174D07193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DDAA5-CDCC-424E-B7D8-0C7A9B4730C6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DDCC5-EF31-42DA-B7C7-C868AAAC536D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E1C4C-DB97-484C-B3D6-1AE5FD229863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E9538-FDC5-43E2-840E-37A052592D07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1B691-4113-4267-9EC7-BFE991A25CE5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6CFE4-ADE5-4B6E-A742-5EE92A6793CA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A81C6-8EEF-4D03-B9C3-C7415B145954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0A05B-90B7-451A-BC5D-67160CCAA697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EFA8A-7222-45ED-AE4A-29045AD51E4D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629EF-3DBE-48A0-9FA3-D0CB0A982D27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37EBA-A5A1-4BF8-97C0-2440196A2858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EB21-6C14-47EA-B70D-A2B2CBC08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B890-48C0-4D69-8E95-3D0036CDA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6672-73A8-4B0D-8B57-292E005A5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A574-7689-478D-9C13-A10EE12DD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68B20-EF95-42F3-8DCC-A8F959923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4E839-A34A-4FEF-8615-C3F62353C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037E6-E611-4097-BF1C-623E73BC1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4EB68-3C62-43AB-BD10-BF974436B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85604-5493-49C8-BC11-A3C18D125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93D3A-2C9D-44EC-B0FA-25F868680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64E7C-09B3-469C-A187-D1972784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D51B-B5E4-4AB7-BE65-0F2A1605B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E53FA-DA8F-4D46-A71D-221443203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E2F5C-140E-4165-AE59-70F44D31D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41BD5-C302-49C0-B5A3-83EB5E03A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A54DF-D210-43DF-BCBF-F3371B4FE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A3BE1-E4AB-4BC5-B686-FFDA271AC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48230-FF69-45A4-9965-A84AFA53A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31309-77EE-42FF-81FB-3270A9F31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F76EB-B06B-44EB-8B17-9634E110C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ED3CB-FC35-4D39-B5B7-3ECE0D8E4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13AE5-250D-4ED4-9D22-A2973D9C7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5044-51B1-4D65-B890-00483C134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913BC-0228-4D71-A80D-EFC46974F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58FE7-9792-479C-AA8C-A19E5B7CD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883FD-E1F0-48E0-812C-5E0F5270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5CFFD-7A17-4378-A86F-916C08482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485A8-BC52-4709-975F-A1CC0FE94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86BEA-2722-4891-A91F-49E98D8B3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FE8EA-81E2-4C71-ABBA-E197B7C46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400C9-3A3E-419B-83DE-ACD329EB5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E6F04-E5EA-48A8-8307-A4A007933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B889D-F2AF-4540-A555-6D1DEA27E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7B6F-10BD-4C35-BBA8-9C325FA0C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B332B-7F2C-466A-8914-FC93A508F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B8418-9E3F-4ABD-8664-8515CD752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389F4-E41C-49BE-9DFB-8420A3C36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F6ED7-B6AA-487D-8B17-47000B7E6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E2DFF-B133-4B49-9365-5A0E427B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63C4A-6B8E-44B7-8CE2-1883891E8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4B3FA-BDE8-4D52-8F89-654279996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8163C-40FF-45C3-BE4D-1B76B6500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F63B5-A198-4C90-8845-1F231B64D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4F6EBF-FC14-424F-8D3D-ED3D9BD0E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A9A2-6DD1-45DA-AB4F-61993A643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73859-21D4-40CF-836F-5A12BB7D8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97C46-C438-49B5-9B59-3CF1AB5A3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E56273-E01D-4367-91C3-042F33ED2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0032B1-FCF3-4051-909D-0FD3ECA9C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0F4E1-D796-4A04-AB8F-52BA0DF28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FEA23-9913-4385-8BF4-62733DD3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E4558-1420-4EBB-874B-AB982A00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1DC69-9239-4731-91AE-7F06989B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EC292-D6EE-4F64-B40E-1A425615C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A7B63-B35C-4769-AEE7-85498523C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8E63-D91D-448E-85F5-A1888BD13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0A4CD-5829-4B80-BAC2-86C5F987A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52E024-FDED-4548-8C31-62FCBC426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11CAB9-1CE8-4A61-9AC2-9423FEB5F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68F286-5ECA-499F-8DA5-C6993D8C4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9BF692-5556-4309-86BC-FCC1B0BBB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1C4710-F14B-45C5-9134-D487D56C8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E7AF0E-7C31-45DE-AFF6-CE7EE7F08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55B8D2-5E7B-4CCA-86C0-314BDD7A0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DA4B33-ECC6-447A-867E-51C733CAA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EDBCD7-8574-4018-A19F-00E0B703B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4EF4-F6D7-4CA8-9A6F-92EFD6A4D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FA254D-2FEB-4CB1-AF26-976F9CEDA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139494-5A4D-46AA-92D7-579EDC387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814705-C78D-4DDD-AE1E-85046A303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CDEB85-1DC6-47FF-9242-91E2BC2AB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113089-1F5F-4530-8594-0AD4B53EF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FE91FC-CD04-45EB-91A7-096694E9A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322450-710F-4CED-A4F1-E4F64827F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3AC551-3957-4FE8-9AEB-421B4A24E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42B6BA-7373-496D-A969-3A5531F37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9A3D5-ECAA-4C43-92FF-7AFE9747D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4108-126F-4B55-AAE9-B04D92DF4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A82645-AF9C-4B13-BD80-2AA2CE7C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B80E60-77F4-432B-8354-DD356A280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52B8CE-2150-4AEF-B851-16043812C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49A73B-20B7-4F0F-A9D6-73CF9BD1B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89D14B-BE0B-49AB-B40F-3AC4B6625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0E4F-4C5E-48FD-A52B-017B0D674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2DE9A-5EA5-4D41-88B4-D30A38B8DBD7}" type="slidenum">
              <a:rPr b="0" lang="uk-UA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71BAC-18F7-4842-B17A-D486882752CE}" type="slidenum">
              <a:rPr b="0" lang="uk-UA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FE80A-24C9-4359-BDDC-22421A3AC4FF}" type="slidenum">
              <a:rPr b="0" lang="uk-UA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79B13-BBA9-4AC7-B49A-8A97FC51D133}" type="slidenum">
              <a:rPr b="0" lang="uk-UA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6AAE6-B214-487F-B5FB-4B548E4CC552}" type="slidenum">
              <a:rPr b="0" lang="uk-UA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A8652-87BC-43FC-B9FE-75788C6A02E5}" type="slidenum">
              <a:rPr b="0" lang="uk-UA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9E75A-7770-44D4-93E2-0BD811E788D8}" type="slidenum">
              <a:rPr b="0" lang="uk-UA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Заголовок 1" descr=""/>
          <p:cNvPicPr/>
          <p:nvPr/>
        </p:nvPicPr>
        <p:blipFill>
          <a:blip r:embed="rId1"/>
          <a:stretch/>
        </p:blipFill>
        <p:spPr>
          <a:xfrm>
            <a:off x="689040" y="3359160"/>
            <a:ext cx="8076960" cy="167004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Corbel"/>
              </a:rPr>
              <a:t>Академія адвокатури України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Corbel"/>
              </a:rPr>
              <a:t>Магістратура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TextBox 3"/>
          <p:cNvSpPr/>
          <p:nvPr/>
        </p:nvSpPr>
        <p:spPr>
          <a:xfrm>
            <a:off x="6072120" y="5715000"/>
            <a:ext cx="23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Доцент  С.Гончар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30" name="Содержимое 3" descr=""/>
          <p:cNvPicPr/>
          <p:nvPr/>
        </p:nvPicPr>
        <p:blipFill>
          <a:blip r:embed="rId2"/>
          <a:stretch/>
        </p:blipFill>
        <p:spPr>
          <a:xfrm>
            <a:off x="433440" y="1749600"/>
            <a:ext cx="8277120" cy="46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32" name="Содержимое 3" descr=""/>
          <p:cNvPicPr/>
          <p:nvPr/>
        </p:nvPicPr>
        <p:blipFill>
          <a:blip r:embed="rId2"/>
          <a:stretch/>
        </p:blipFill>
        <p:spPr>
          <a:xfrm>
            <a:off x="433440" y="1749600"/>
            <a:ext cx="8296200" cy="46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34" name="Содержимое 3" descr=""/>
          <p:cNvPicPr/>
          <p:nvPr/>
        </p:nvPicPr>
        <p:blipFill>
          <a:blip r:embed="rId2"/>
          <a:stretch/>
        </p:blipFill>
        <p:spPr>
          <a:xfrm>
            <a:off x="407880" y="1547640"/>
            <a:ext cx="830268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 txBox="1"/>
          <p:nvPr/>
        </p:nvSpPr>
        <p:spPr>
          <a:xfrm>
            <a:off x="457200" y="1714320"/>
            <a:ext cx="8229600" cy="46861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6000"/>
          </a:bodyPr>
          <a:p>
            <a:pPr marL="420480" indent="-306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Міністри підтвердили </a:t>
            </a:r>
            <a:r>
              <a:rPr b="1" lang="uk-UA" sz="1800" spc="-1" strike="noStrike">
                <a:solidFill>
                  <a:srgbClr val="000000"/>
                </a:solidFill>
                <a:latin typeface="Corbel"/>
              </a:rPr>
              <a:t>зміну дій </a:t>
            </a: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із створення планів на майбутнє на практичне втілення у життя цілей Болонського процесу, а саме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прийняття </a:t>
            </a:r>
            <a:r>
              <a:rPr b="1" lang="uk-UA" sz="1800" spc="-1" strike="noStrike">
                <a:solidFill>
                  <a:srgbClr val="000000"/>
                </a:solidFill>
                <a:latin typeface="Corbel"/>
              </a:rPr>
              <a:t>спільної структури кваліфікаційних рівнів </a:t>
            </a: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Зони європейської вищої освіти з обов'язковою розробкою національних структур кваліфікаційних рівнів до 2010 року (початок - 2007 р.);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прийняття </a:t>
            </a:r>
            <a:r>
              <a:rPr b="1" lang="uk-UA" sz="1800" spc="-1" strike="noStrike">
                <a:solidFill>
                  <a:srgbClr val="000000"/>
                </a:solidFill>
                <a:latin typeface="Corbel"/>
              </a:rPr>
              <a:t>директив та стандартів забезпечення якості</a:t>
            </a: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, створення запиту до </a:t>
            </a: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ENQA</a:t>
            </a: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European Association for Quality Assurance in Higher Education</a:t>
            </a: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EUA</a:t>
            </a: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European University Association</a:t>
            </a: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ESIB</a:t>
            </a: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European Student Information Bureau</a:t>
            </a: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EURASHE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 (European Association of Institutions in Higher Education) </a:t>
            </a: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щодо розробки пропозицій стосовно реєстрації агенцій забезпечення якості;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подальше наголошення на важливості </a:t>
            </a:r>
            <a:r>
              <a:rPr b="1" lang="uk-UA" sz="1800" spc="-1" strike="noStrike">
                <a:solidFill>
                  <a:srgbClr val="000000"/>
                </a:solidFill>
                <a:latin typeface="Corbel"/>
              </a:rPr>
              <a:t>соціального виміру вищої освіти</a:t>
            </a: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, що включає академічну мобільність (але не лімітується нею);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необхідність взаємодії між Зоною європейської вищої освіти та іншими частинами світу ("зовнішній вимір");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зростаюча важливість адресації розвитку Зони європейської вищої освіти після 2010 року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rbel"/>
              </a:rPr>
              <a:t>Було запрошено ще 5 країн (Арменія, Азербайджан, Молдова та </a:t>
            </a:r>
            <a:r>
              <a:rPr b="1" lang="uk-UA" sz="2200" spc="-1" strike="noStrike">
                <a:solidFill>
                  <a:srgbClr val="000000"/>
                </a:solidFill>
                <a:latin typeface="Corbel"/>
              </a:rPr>
              <a:t>Україна</a:t>
            </a:r>
            <a:r>
              <a:rPr b="0" lang="uk-UA" sz="2200" spc="-1" strike="noStrike">
                <a:solidFill>
                  <a:srgbClr val="000000"/>
                </a:solidFill>
                <a:latin typeface="Corbel"/>
              </a:rPr>
              <a:t>) як нових країн-учасниць БП. Таким чином, загальна кількість учасників БП зросла до 45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rbel"/>
              </a:rPr>
              <a:t>Було також прийняте рішення розширити коло консультативних членів БП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rbel"/>
              </a:rPr>
              <a:t>Пан-європейської структури міжнародної освіти (</a:t>
            </a: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Education International (EI) Pan-European Structure),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rbel"/>
              </a:rPr>
              <a:t>Європейської асоціації забезпечення якості вищої освіти (</a:t>
            </a: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the European Association for Quality Assurance in Higher Education (ENQA)) </a:t>
            </a:r>
            <a:r>
              <a:rPr b="0" lang="uk-UA" sz="2200" spc="-1" strike="noStrike">
                <a:solidFill>
                  <a:srgbClr val="000000"/>
                </a:solidFill>
                <a:latin typeface="Corbel"/>
              </a:rPr>
              <a:t>та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rbel"/>
              </a:rPr>
              <a:t>Спілки конфедерацій промисловців та роботодавців Європи (</a:t>
            </a: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the Union of Industrial and Employers' Confederations of Europe (UNICE)</a:t>
            </a:r>
            <a:r>
              <a:rPr b="0" lang="uk-UA" sz="2200" spc="-1" strike="noStrike">
                <a:solidFill>
                  <a:srgbClr val="000000"/>
                </a:solidFill>
                <a:latin typeface="Corbel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6828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424800" indent="-3092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Corbel"/>
              </a:rPr>
              <a:t>Підтверджено позицію, що Болонський процес є всеєвропейською стратегією реформування вищої освіти, що зосереджується на трьох елементах: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Corbel"/>
              </a:rPr>
              <a:t>переході європейських вищих навчальних закладів на трьохступеневу структуру (бакалавр - магістр - доктор);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Corbel"/>
              </a:rPr>
              <a:t>забезпеченні якості вищої освіти, зокрема створенні незалежних агенцій, що слідкують за якістю вищої освіти у країнах-учасницях,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Corbel"/>
              </a:rPr>
              <a:t>визнанні кваліфікацій та періодів навчання, здобутих студентами у різних навчальних закладах Європи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6828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700" spc="-1" strike="noStrike">
                <a:solidFill>
                  <a:srgbClr val="000000"/>
                </a:solidFill>
                <a:latin typeface="Corbel"/>
              </a:rPr>
              <a:t>Подальший розвиток: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Corbel"/>
              </a:rPr>
              <a:t>Університети потребують: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Corbel"/>
              </a:rPr>
              <a:t>модернізації змісту своїх навчальних планів,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Corbel"/>
              </a:rPr>
              <a:t>створення віртуальних кампусів та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Corbel"/>
              </a:rPr>
              <a:t>реформування своєї моделі управління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Corbel"/>
              </a:rPr>
              <a:t>Університети мають забезпечити: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Corbel"/>
              </a:rPr>
              <a:t>професіоналізацію менеджменту,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Corbel"/>
              </a:rPr>
              <a:t>диверсифікація фінансування та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Corbel"/>
              </a:rPr>
              <a:t>відкритість до викладачів нового типу, бізнесу та суспільства у цілому - як європейського, так і неєвропейського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6828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orbel"/>
              </a:rPr>
              <a:t>Подальший розвиток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rbel"/>
              </a:rPr>
              <a:t>Окремий акцент зроблено на сприяння реформам вищої освіти, що здійснюються у </a:t>
            </a:r>
            <a:r>
              <a:rPr b="1" lang="uk-UA" sz="2200" spc="-1" strike="noStrike">
                <a:solidFill>
                  <a:srgbClr val="000000"/>
                </a:solidFill>
                <a:latin typeface="Corbel"/>
              </a:rPr>
              <a:t>країнах-сусідах ЄС</a:t>
            </a:r>
            <a:r>
              <a:rPr b="0" lang="uk-UA" sz="2200" spc="-1" strike="noStrike">
                <a:solidFill>
                  <a:srgbClr val="000000"/>
                </a:solidFill>
                <a:latin typeface="Corbel"/>
              </a:rPr>
              <a:t>, зокрема через фінансовий механізм Європейської політики сусідства та програму академічної мобільності </a:t>
            </a: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Erasmus Mundus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rbel"/>
              </a:rPr>
              <a:t>Одним із акцентів зустрічі є надання Болонському процесу </a:t>
            </a:r>
            <a:r>
              <a:rPr b="1" lang="uk-UA" sz="2200" spc="-1" strike="noStrike">
                <a:solidFill>
                  <a:srgbClr val="000000"/>
                </a:solidFill>
                <a:latin typeface="Corbel"/>
              </a:rPr>
              <a:t>глобального виміру</a:t>
            </a:r>
            <a:r>
              <a:rPr b="0" lang="uk-UA" sz="2200" spc="-1" strike="noStrike">
                <a:solidFill>
                  <a:srgbClr val="000000"/>
                </a:solidFill>
                <a:latin typeface="Corbel"/>
              </a:rPr>
              <a:t>. Стратегія, ухвалена на засіданні, спрямована на підвищення привабливості європейських інституцій вищої освіти для студентів і викладачів з інших регіонів, розвиток партнерських стосунків із університетами неєвропейських країн, поліпшення механізмів визнання кваліфікацій та періодів навчання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14" name="Содержимое 6" descr=""/>
          <p:cNvPicPr/>
          <p:nvPr/>
        </p:nvPicPr>
        <p:blipFill>
          <a:blip r:embed="rId2"/>
          <a:stretch/>
        </p:blipFill>
        <p:spPr>
          <a:xfrm>
            <a:off x="414360" y="1755720"/>
            <a:ext cx="829620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68280"/>
          </a:xfrm>
          <a:prstGeom prst="rect">
            <a:avLst/>
          </a:prstGeom>
          <a:ln w="0">
            <a:noFill/>
          </a:ln>
        </p:spPr>
      </p:pic>
      <p:pic>
        <p:nvPicPr>
          <p:cNvPr id="316" name="Содержимое 3" descr=""/>
          <p:cNvPicPr/>
          <p:nvPr/>
        </p:nvPicPr>
        <p:blipFill>
          <a:blip r:embed="rId2"/>
          <a:stretch/>
        </p:blipFill>
        <p:spPr>
          <a:xfrm>
            <a:off x="433440" y="1773360"/>
            <a:ext cx="82771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68280"/>
          </a:xfrm>
          <a:prstGeom prst="rect">
            <a:avLst/>
          </a:prstGeom>
          <a:ln w="0">
            <a:noFill/>
          </a:ln>
        </p:spPr>
      </p:pic>
      <p:pic>
        <p:nvPicPr>
          <p:cNvPr id="318" name="Содержимое 3" descr=""/>
          <p:cNvPicPr/>
          <p:nvPr/>
        </p:nvPicPr>
        <p:blipFill>
          <a:blip r:embed="rId2"/>
          <a:stretch/>
        </p:blipFill>
        <p:spPr>
          <a:xfrm>
            <a:off x="433440" y="1755720"/>
            <a:ext cx="827712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68280"/>
          </a:xfrm>
          <a:prstGeom prst="rect">
            <a:avLst/>
          </a:prstGeom>
          <a:ln w="0">
            <a:noFill/>
          </a:ln>
        </p:spPr>
      </p:pic>
      <p:pic>
        <p:nvPicPr>
          <p:cNvPr id="320" name="Содержимое 3" descr=""/>
          <p:cNvPicPr/>
          <p:nvPr/>
        </p:nvPicPr>
        <p:blipFill>
          <a:blip r:embed="rId2"/>
          <a:stretch/>
        </p:blipFill>
        <p:spPr>
          <a:xfrm>
            <a:off x="407880" y="1773360"/>
            <a:ext cx="830268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6828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457200" y="164304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424800" indent="4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rbel"/>
              </a:rPr>
              <a:t>Міністри підтвердили потребу в </a:t>
            </a:r>
            <a:r>
              <a:rPr b="1" lang="uk-UA" sz="1600" spc="-1" strike="noStrike">
                <a:solidFill>
                  <a:srgbClr val="000000"/>
                </a:solidFill>
                <a:latin typeface="Corbel"/>
              </a:rPr>
              <a:t>структурі для керування Болонським процесом</a:t>
            </a:r>
            <a:r>
              <a:rPr b="0" lang="uk-UA" sz="1600" spc="-1" strike="noStrike">
                <a:solidFill>
                  <a:srgbClr val="000000"/>
                </a:solidFill>
                <a:latin typeface="Corbel"/>
              </a:rPr>
              <a:t>, що складається з: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24800" indent="43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Corbel"/>
              </a:rPr>
              <a:t>групи сприяння</a:t>
            </a:r>
            <a:r>
              <a:rPr b="0" lang="uk-UA" sz="1600" spc="-1" strike="noStrike">
                <a:solidFill>
                  <a:srgbClr val="000000"/>
                </a:solidFill>
                <a:latin typeface="Corbel"/>
              </a:rPr>
              <a:t> – з представників усіх країн, що підписали відповідні документи, нових учасників і Європейської комісії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24800" indent="43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rbel"/>
              </a:rPr>
              <a:t>і </a:t>
            </a:r>
            <a:r>
              <a:rPr b="1" lang="uk-UA" sz="1600" spc="-1" strike="noStrike">
                <a:solidFill>
                  <a:srgbClr val="000000"/>
                </a:solidFill>
                <a:latin typeface="Corbel"/>
              </a:rPr>
              <a:t>групи підготовки</a:t>
            </a:r>
            <a:r>
              <a:rPr b="0" lang="uk-UA" sz="1600" spc="-1" strike="noStrike">
                <a:solidFill>
                  <a:srgbClr val="000000"/>
                </a:solidFill>
                <a:latin typeface="Corbel"/>
              </a:rPr>
              <a:t> – з представників країн, які є приймаючими на попередніх і наступних зустрічах на рівні міністрів, двох держав - членів ЄС і двох країн, що не входять у ЄС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24800" indent="4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24800" indent="4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rbel"/>
              </a:rPr>
              <a:t>Європейській асоціації університетів, Європейській асоціації вищих навчальних закладів, Асоціації національних спілок студентів у Європі і Раді Європи необхідно консультуватися щодо стану розвитку процесу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24800" indent="4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rbel"/>
              </a:rPr>
              <a:t>Задля дієвості процесу, міністри просили </a:t>
            </a:r>
            <a:r>
              <a:rPr b="1" lang="uk-UA" sz="1600" spc="-1" strike="noStrike">
                <a:solidFill>
                  <a:srgbClr val="000000"/>
                </a:solidFill>
                <a:latin typeface="Corbel"/>
              </a:rPr>
              <a:t>групу сприяння</a:t>
            </a:r>
            <a:r>
              <a:rPr b="0" lang="uk-UA" sz="1600" spc="-1" strike="noStrike">
                <a:solidFill>
                  <a:srgbClr val="000000"/>
                </a:solidFill>
                <a:latin typeface="Corbel"/>
              </a:rPr>
              <a:t> впорядкувати </a:t>
            </a:r>
            <a:r>
              <a:rPr b="1" lang="uk-UA" sz="1600" spc="-1" strike="noStrike">
                <a:solidFill>
                  <a:srgbClr val="000000"/>
                </a:solidFill>
                <a:latin typeface="Corbel"/>
              </a:rPr>
              <a:t>семінари</a:t>
            </a:r>
            <a:r>
              <a:rPr b="0" lang="uk-UA" sz="1600" spc="-1" strike="noStrike">
                <a:solidFill>
                  <a:srgbClr val="000000"/>
                </a:solidFill>
                <a:latin typeface="Corbel"/>
              </a:rPr>
              <a:t> для проведення досліджень у таких галузях: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24800" indent="43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rbel"/>
              </a:rPr>
              <a:t>співробітництво, що стосується акредитації і забезпечення якості;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24800" indent="43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rbel"/>
              </a:rPr>
              <a:t>визнання результатів навчання і використання кредитів у Болонському процесі;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24800" indent="43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rbel"/>
              </a:rPr>
              <a:t>розвиток спільних ступенів;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24800" indent="43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rbel"/>
              </a:rPr>
              <a:t>соціальні питання, із акцентованою увагою щодо перешкод мобільності, а також розширення Болонського процесу, навчання протягом усього життя і залучення до обговорення студентів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rbel"/>
              </a:rPr>
              <a:t>Міністри беруть до уваги 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rbel"/>
              </a:rPr>
              <a:t>звіт про стан робіт, доручений Комісії з розвитку Болонського Процесу між Прагою і Берліном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rbel"/>
              </a:rPr>
              <a:t>звіт Trends-</a:t>
            </a: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III</a:t>
            </a:r>
            <a:r>
              <a:rPr b="1" lang="uk-UA" sz="1800" spc="-1" strike="noStrike">
                <a:solidFill>
                  <a:srgbClr val="000000"/>
                </a:solidFill>
                <a:latin typeface="Corbel"/>
              </a:rPr>
              <a:t>, підготовлений Європейською Асоціацією Університетів (EUA),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rbel"/>
              </a:rPr>
              <a:t>результати семінарів, організованих як частина робочої програми між Прагою і Берліном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rbel"/>
              </a:rPr>
              <a:t>зауваження Європейської Комісії і Ради Європи і визнають їхню підтримку в процесі реалізації Процесу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Міністри  вважають за необхідне спрямовувати зусилля на забезпечення більш тісних </a:t>
            </a:r>
            <a:r>
              <a:rPr b="1" lang="uk-UA" sz="1800" spc="-1" strike="noStrike">
                <a:solidFill>
                  <a:srgbClr val="000000"/>
                </a:solidFill>
                <a:latin typeface="Corbel"/>
              </a:rPr>
              <a:t>зв'язків між вищою освітою і дослідницькими системами</a:t>
            </a: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 в кожній із країн-учасниць. Загальноєвропейський простір вищої освіти на цьому початковому етапі матиме велику користь від спільної діяльності з європейським дослідницьким простором, зміцнюючи </a:t>
            </a:r>
            <a:r>
              <a:rPr b="1" lang="uk-UA" sz="1800" spc="-1" strike="noStrike">
                <a:solidFill>
                  <a:srgbClr val="000000"/>
                </a:solidFill>
                <a:latin typeface="Corbel"/>
              </a:rPr>
              <a:t>фундамент для Європи Знань.</a:t>
            </a: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 Метою  є  </a:t>
            </a:r>
            <a:r>
              <a:rPr b="1" lang="uk-UA" sz="1800" spc="-1" strike="noStrike">
                <a:solidFill>
                  <a:srgbClr val="000000"/>
                </a:solidFill>
                <a:latin typeface="Corbel"/>
              </a:rPr>
              <a:t>збереження європейського культурного багатства і мовної різноманітності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Міністри визнають </a:t>
            </a:r>
            <a:r>
              <a:rPr b="1" lang="uk-UA" sz="1800" spc="-1" strike="noStrike">
                <a:solidFill>
                  <a:srgbClr val="000000"/>
                </a:solidFill>
                <a:latin typeface="Corbel"/>
              </a:rPr>
              <a:t>фундаментальну роль вузів</a:t>
            </a: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 і </a:t>
            </a:r>
            <a:r>
              <a:rPr b="1" lang="uk-UA" sz="1800" spc="-1" strike="noStrike">
                <a:solidFill>
                  <a:srgbClr val="000000"/>
                </a:solidFill>
                <a:latin typeface="Corbel"/>
              </a:rPr>
              <a:t>студентських організацій</a:t>
            </a: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 у розвитку загальноєвропейського простору вищої освіти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26" name="Содержимое 3" descr=""/>
          <p:cNvPicPr/>
          <p:nvPr/>
        </p:nvPicPr>
        <p:blipFill>
          <a:blip r:embed="rId2"/>
          <a:stretch/>
        </p:blipFill>
        <p:spPr>
          <a:xfrm>
            <a:off x="384120" y="1773360"/>
            <a:ext cx="832644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28" name="Содержимое 3" descr=""/>
          <p:cNvPicPr/>
          <p:nvPr/>
        </p:nvPicPr>
        <p:blipFill>
          <a:blip r:embed="rId2"/>
          <a:stretch/>
        </p:blipFill>
        <p:spPr>
          <a:xfrm>
            <a:off x="401760" y="1749600"/>
            <a:ext cx="8308800" cy="46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2T13:37:27Z</dcterms:created>
  <dc:creator>Сережа</dc:creator>
  <dc:description/>
  <dc:language>en-US</dc:language>
  <cp:lastModifiedBy>sgrey</cp:lastModifiedBy>
  <dcterms:modified xsi:type="dcterms:W3CDTF">2010-09-26T20:21:44Z</dcterms:modified>
  <cp:revision>25</cp:revision>
  <dc:subject/>
  <dc:title>Болонський процес</dc:title>
</cp:coreProperties>
</file>