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150E-8F9D-453A-B2DA-F92ED7ADB7F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0E6B-4590-400A-841F-546FBF29686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5A13-AFDF-4C51-8BAF-BC72F731202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C7A1-078B-41B2-AE5D-CF0B2214B22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F37D-744F-4BCD-AFD4-B1808B47A06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CDAA-242A-4E83-B2BE-5BD334CB771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8D36-5E75-4962-89DB-D3CD4798EEE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6BEB-3982-48B3-82F5-889FECB18BA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EEB0-CDB5-486F-93DC-AAC42D07A9F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0A9C-A162-44E3-ABF6-5B8423FEE9F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11DC-D7BF-45B7-A5E4-AE037F4A1EE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FE26-ED35-41A3-A4C0-2B0D3756207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C611-C1DD-4FAD-B40B-2053E96D113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E007-82F8-4C04-AB55-2346716F530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F6D5-F219-44D4-A7C8-AA152104102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1515-04F5-42F7-AE44-0A0B6E0B31B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1DF0-0D04-45C4-B5C6-48DE63C2E49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8B1D-640E-4A8F-962F-7EA357CD57A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97E0-64DA-41AD-A6C7-D111214E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F21A-1076-4631-AB77-00B3148B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E40-F9C9-4DFB-9295-DDD57A3E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EFA-03F8-4742-AD14-A0300CEF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3D6A-2B3E-45F1-AA59-4AC24022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F2FD-8DFD-4996-B905-B92EE206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ABBB-8941-401F-B71B-02F33659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57C8-17B0-4F16-89B4-3F18B569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EA53-9625-40ED-AA35-82EB2CCB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6981-8678-4A70-A4BB-C5C229C3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4F79-88EE-4B5A-9D1F-7DD7E8CE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634-DAC7-4F74-B419-FF3F5143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0E23-B542-4178-96CF-32F4F8FA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5481-984D-4117-AEEE-AA29A66C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3333-64E1-4BE5-AADB-4A663B58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0BDA-9A46-48B0-9CE2-6EAFFA95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ED43-18FE-4F9A-A630-8E3183B6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F84E9-F4DB-4B0E-B65F-3547D9FB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FF439-8329-4A12-A592-C4F43CE8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2A14F-6A51-455F-9F92-F76B30A4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51285-CD55-479A-AD5A-48912207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D575D-FF05-41A7-9E51-BA0D9ED9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722-EB0A-4544-921B-770167FA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BBF11-BD7B-46C0-B8C7-456BD482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1A6E2-2F8C-402E-A646-724C67DB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C52AE-47DC-4FE0-BC67-A701D775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B9185-0F79-443C-97FE-63FDFE5F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FE72E-A6C3-491B-97B2-8E29BC0F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0F007-647A-4032-8083-CA421C6D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E958A-E4C6-4883-9FB3-15CF0D18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34F9B-43DA-43C4-B69A-61D3FA90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77682-2EE4-4860-8530-F273C5C7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4AD50-AAF1-4AAE-A80E-69B9FF51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B3A-081D-464B-8E09-5FE4C413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9E939-D00A-4144-A0C9-70B325FD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713DB-7142-4041-8CBD-C4411302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B7693-E55E-4EF5-95F8-5947F195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636CE-9861-47E0-8728-C2AB25EB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BF914-A14D-4B82-B6CC-218D0A2C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8C46C-8937-4071-90C1-476601AC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4979E-44CD-402A-B48C-535F719C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CA946-E1E1-4D3C-8C39-E0D4D7DA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732FF-EF3E-4435-9D3E-5FD33A12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504AA-B9E9-4885-A286-CB3890D6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31C5-DC53-4D67-9B97-356A784E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01FFE-CFED-4BE4-851E-B9723DDF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D5C73-508C-40BE-8FEA-398323FA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F3A31-DCE7-45C1-8BF3-CDDBB39D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A5052-DFC2-4CDE-AFEF-B891B626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5AA34-0487-4996-A30F-01320513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573E3-3B9C-493C-9F9B-27347DD8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0F48A-80FF-4D91-AD4B-A56512E0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F10F3-27E2-4929-AB77-EC04F954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37EDE-BDD9-4D54-856C-AD9A4C8B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FD080-BB37-4242-BFF7-4122B78A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0268-F743-4BF7-A6AF-4060158C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55E6F-5E06-4D4C-AB35-4FD32D4D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E8319-310B-4598-B4A5-17412985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AE8B8-C2DA-423B-916A-46B7603A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0C800-00FF-41F6-A8DC-A64863FB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F7FC1-94F0-484C-8BD5-900914C6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B0114-0F9A-412C-B10E-E9387719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D8387-688F-4EE6-9523-6424D93E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78F80-1179-4CCF-BAC2-DD0D9F8F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A62A0-6065-4EA6-A744-22C0A1A9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A5211-D09A-4C4F-BF6B-0FF1620F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00BC-37C6-46B5-9A52-EC96533A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98A66-0334-4593-9F6C-33A5B166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FBE20-C8E4-4E78-B582-B549FE79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C2E19-1779-4EC0-99A7-2A96A494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CF21C-55B9-4897-83DD-97F41C83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91BCF-B0ED-4988-83C9-29589387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4B73D-C01B-4E67-9153-FDFC868F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E99D0-9CBB-4E97-BB23-BC60535B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3B6C3-9AC7-4AD5-AF12-3093237A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4C42A-A6E3-48BD-A6D9-197C1CE8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792BA-48CE-4BD7-B605-EDB35C66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644B-D92B-4CE1-B684-5FD417A2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303A8-5652-4E65-B99C-A6C08600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B2063-3A77-435C-8890-D402AC42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36A61-E257-4421-8FB0-A23A9416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3944E-0D46-471B-87D6-2DA5E81E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84A11-779C-4F94-BDFE-1960828D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1B4-8690-42A2-BB24-14620130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2D33-3096-4F4D-89CF-7EF1989A2408}" type="slidenum">
              <a:rPr b="0" lang="uk-UA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3624-23C2-4D66-BAB4-8168C2746CCA}" type="slidenum">
              <a:rPr b="0" lang="uk-UA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CD60-D5F8-4032-8134-E20CCD777FDC}" type="slidenum">
              <a:rPr b="0" lang="uk-UA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2597-0684-4505-A955-2FB2984FB9DE}" type="slidenum">
              <a:rPr b="0" lang="uk-UA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D369-A5A3-4F29-BBCC-095B22444DC5}" type="slidenum">
              <a:rPr b="0" lang="uk-UA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E179-28B5-4C40-87CE-2AADCF15BF24}" type="slidenum">
              <a:rPr b="0" lang="uk-UA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A843-7863-425C-AAF6-DE80572CA976}" type="slidenum">
              <a:rPr b="0" lang="uk-UA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rbel"/>
              </a:rPr>
              <a:t>Академія адвокатури Україн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rbel"/>
              </a:rPr>
              <a:t>Магістратур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TextBox 3"/>
          <p:cNvSpPr/>
          <p:nvPr/>
        </p:nvSpPr>
        <p:spPr>
          <a:xfrm>
            <a:off x="6072120" y="571500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Доцент  С.Гончар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0" name="Содержимое 3" descr=""/>
          <p:cNvPicPr/>
          <p:nvPr/>
        </p:nvPicPr>
        <p:blipFill>
          <a:blip r:embed="rId2"/>
          <a:stretch/>
        </p:blipFill>
        <p:spPr>
          <a:xfrm>
            <a:off x="433440" y="1749600"/>
            <a:ext cx="82771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2" name="Содержимое 3" descr=""/>
          <p:cNvPicPr/>
          <p:nvPr/>
        </p:nvPicPr>
        <p:blipFill>
          <a:blip r:embed="rId2"/>
          <a:stretch/>
        </p:blipFill>
        <p:spPr>
          <a:xfrm>
            <a:off x="433440" y="1749600"/>
            <a:ext cx="829620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4" name="Содержимое 3" descr=""/>
          <p:cNvPicPr/>
          <p:nvPr/>
        </p:nvPicPr>
        <p:blipFill>
          <a:blip r:embed="rId2"/>
          <a:stretch/>
        </p:blipFill>
        <p:spPr>
          <a:xfrm>
            <a:off x="407880" y="1547640"/>
            <a:ext cx="830268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14320"/>
            <a:ext cx="8229600" cy="4686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Міністри підтвердили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зміну дій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із створення планів на майбутнє на практичне втілення у життя цілей Болонського процесу, а саме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прийняття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спільної структури кваліфікаційних рівнів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Зони європейської вищої освіти з обов'язковою розробкою національних структур кваліфікаційних рівнів до 2010 року (початок - 2007 р.)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прийняття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директив та стандартів забезпечення якості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, створення запиту до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ENQA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uropean Association for Quality Assurance in Higher Education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EUA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uropean University Association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ESIB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uropean Student Information Bureau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EURASHE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(European Association of Institutions in Higher Education)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щодо розробки пропозицій стосовно реєстрації агенцій забезпечення якості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подальше наголошення на важливості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соціального виміру вищої освіти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, що включає академічну мобільність (але не лімітується нею)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необхідність взаємодії між Зоною європейської вищої освіти та іншими частинами світу ("зовнішній вимір")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зростаюча важливість адресації розвитку Зони європейської вищої освіти після 2010 рок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Було запрошено ще 5 країн (Арменія, Азербайджан, Молдова та </a:t>
            </a:r>
            <a:r>
              <a:rPr b="1" lang="uk-UA" sz="2200" spc="-1" strike="noStrike">
                <a:solidFill>
                  <a:srgbClr val="000000"/>
                </a:solidFill>
                <a:latin typeface="Corbel"/>
              </a:rPr>
              <a:t>Україна</a:t>
            </a: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) як нових країн-учасниць БП. Таким чином, загальна кількість учасників БП зросла до 45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Було також прийняте рішення розширити коло консультативних членів БП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Пан-європейської структури міжнародної освіти (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Education International (EI) Pan-European Structure),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Європейської асоціації забезпечення якості вищої освіти (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e European Association for Quality Assurance in Higher Education (ENQA)) </a:t>
            </a: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та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Спілки конфедерацій промисловців та роботодавців Європи (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e Union of Industrial and Employers' Confederations of Europe (UNICE)</a:t>
            </a: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Підтверджено позицію, що Болонський процес є всеєвропейською стратегією реформування вищої освіти, що зосереджується на трьох елементах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переході європейських вищих навчальних закладів на трьохступеневу структуру (бакалавр - магістр - доктор)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забезпеченні якості вищої освіти, зокрема створенні незалежних агенцій, що слідкують за якістю вищої освіти у країнах-учасницях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визнанні кваліфікацій та періодів навчання, здобутих студентами у різних навчальних закладах Європ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000000"/>
                </a:solidFill>
                <a:latin typeface="Corbel"/>
              </a:rPr>
              <a:t>Подальший розвиток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Університети потребують: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модернізації змісту своїх навчальних планів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створення віртуальних кампусів т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реформування своєї моделі управління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Університети мають забезпечити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професіоналізацію менеджменту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диверсифікація фінансування та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відкритість до викладачів нового типу, бізнесу та суспільства у цілому - як європейського, так і неєвропейського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rbel"/>
              </a:rPr>
              <a:t>Подальший розвиток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Окремий акцент зроблено на сприяння реформам вищої освіти, що здійснюються у </a:t>
            </a:r>
            <a:r>
              <a:rPr b="1" lang="uk-UA" sz="2200" spc="-1" strike="noStrike">
                <a:solidFill>
                  <a:srgbClr val="000000"/>
                </a:solidFill>
                <a:latin typeface="Corbel"/>
              </a:rPr>
              <a:t>країнах-сусідах ЄС</a:t>
            </a: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, зокрема через фінансовий механізм Європейської політики сусідства та програму академічної мобільності 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Erasmus Mundu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Одним із акцентів зустрічі є надання Болонському процесу </a:t>
            </a:r>
            <a:r>
              <a:rPr b="1" lang="uk-UA" sz="2200" spc="-1" strike="noStrike">
                <a:solidFill>
                  <a:srgbClr val="000000"/>
                </a:solidFill>
                <a:latin typeface="Corbel"/>
              </a:rPr>
              <a:t>глобального виміру</a:t>
            </a: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. Стратегія, ухвалена на засіданні, спрямована на підвищення привабливості європейських інституцій вищої освіти для студентів і викладачів з інших регіонів, розвиток партнерських стосунків із університетами неєвропейських країн, поліпшення механізмів визнання кваліфікацій та періодів навчанн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4" name="Содержимое 6" descr=""/>
          <p:cNvPicPr/>
          <p:nvPr/>
        </p:nvPicPr>
        <p:blipFill>
          <a:blip r:embed="rId2"/>
          <a:stretch/>
        </p:blipFill>
        <p:spPr>
          <a:xfrm>
            <a:off x="414360" y="1755720"/>
            <a:ext cx="82962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8280"/>
          </a:xfrm>
          <a:prstGeom prst="rect">
            <a:avLst/>
          </a:prstGeom>
          <a:ln w="0">
            <a:noFill/>
          </a:ln>
        </p:spPr>
      </p:pic>
      <p:pic>
        <p:nvPicPr>
          <p:cNvPr id="316" name="Содержимое 3" descr=""/>
          <p:cNvPicPr/>
          <p:nvPr/>
        </p:nvPicPr>
        <p:blipFill>
          <a:blip r:embed="rId2"/>
          <a:stretch/>
        </p:blipFill>
        <p:spPr>
          <a:xfrm>
            <a:off x="433440" y="1773360"/>
            <a:ext cx="8277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8280"/>
          </a:xfrm>
          <a:prstGeom prst="rect">
            <a:avLst/>
          </a:prstGeom>
          <a:ln w="0">
            <a:noFill/>
          </a:ln>
        </p:spPr>
      </p:pic>
      <p:pic>
        <p:nvPicPr>
          <p:cNvPr id="318" name="Содержимое 3" descr=""/>
          <p:cNvPicPr/>
          <p:nvPr/>
        </p:nvPicPr>
        <p:blipFill>
          <a:blip r:embed="rId2"/>
          <a:stretch/>
        </p:blipFill>
        <p:spPr>
          <a:xfrm>
            <a:off x="433440" y="1755720"/>
            <a:ext cx="82771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8280"/>
          </a:xfrm>
          <a:prstGeom prst="rect">
            <a:avLst/>
          </a:prstGeom>
          <a:ln w="0">
            <a:noFill/>
          </a:ln>
        </p:spPr>
      </p:pic>
      <p:pic>
        <p:nvPicPr>
          <p:cNvPr id="320" name="Содержимое 3" descr=""/>
          <p:cNvPicPr/>
          <p:nvPr/>
        </p:nvPicPr>
        <p:blipFill>
          <a:blip r:embed="rId2"/>
          <a:stretch/>
        </p:blipFill>
        <p:spPr>
          <a:xfrm>
            <a:off x="407880" y="1773360"/>
            <a:ext cx="830268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6430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Міністри підтвердили потребу в </a:t>
            </a:r>
            <a:r>
              <a:rPr b="1" lang="uk-UA" sz="1600" spc="-1" strike="noStrike">
                <a:solidFill>
                  <a:srgbClr val="000000"/>
                </a:solidFill>
                <a:latin typeface="Corbel"/>
              </a:rPr>
              <a:t>структурі для керування Болонським процесом</a:t>
            </a: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, що складається з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orbel"/>
              </a:rPr>
              <a:t>групи сприяння</a:t>
            </a: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 – з представників усіх країн, що підписали відповідні документи, нових учасників і Європейської комісії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і </a:t>
            </a:r>
            <a:r>
              <a:rPr b="1" lang="uk-UA" sz="1600" spc="-1" strike="noStrike">
                <a:solidFill>
                  <a:srgbClr val="000000"/>
                </a:solidFill>
                <a:latin typeface="Corbel"/>
              </a:rPr>
              <a:t>групи підготовки</a:t>
            </a: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 – з представників країн, які є приймаючими на попередніх і наступних зустрічах на рівні міністрів, двох держав - членів ЄС і двох країн, що не входять у ЄС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Європейській асоціації університетів, Європейській асоціації вищих навчальних закладів, Асоціації національних спілок студентів у Європі і Раді Європи необхідно консультуватися щодо стану розвитку процесу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Задля дієвості процесу, міністри просили </a:t>
            </a:r>
            <a:r>
              <a:rPr b="1" lang="uk-UA" sz="1600" spc="-1" strike="noStrike">
                <a:solidFill>
                  <a:srgbClr val="000000"/>
                </a:solidFill>
                <a:latin typeface="Corbel"/>
              </a:rPr>
              <a:t>групу сприяння</a:t>
            </a: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 впорядкувати </a:t>
            </a:r>
            <a:r>
              <a:rPr b="1" lang="uk-UA" sz="1600" spc="-1" strike="noStrike">
                <a:solidFill>
                  <a:srgbClr val="000000"/>
                </a:solidFill>
                <a:latin typeface="Corbel"/>
              </a:rPr>
              <a:t>семінари</a:t>
            </a: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 для проведення досліджень у таких галузях: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співробітництво, що стосується акредитації і забезпечення якості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визнання результатів навчання і використання кредитів у Болонському процесі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розвиток спільних ступенів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соціальні питання, із акцентованою увагою щодо перешкод мобільності, а також розширення Болонського процесу, навчання протягом усього життя і залучення до обговорення студентів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Міністри беруть до уваги 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звіт про стан робіт, доручений Комісії з розвитку Болонського Процесу між Прагою і Берліном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звіт Trends-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III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, підготовлений Європейською Асоціацією Університетів (EUA)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результати семінарів, організованих як частина робочої програми між Прагою і Берліном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зауваження Європейської Комісії і Ради Європи і визнають їхню підтримку в процесі реалізації Процес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Міністри  вважають за необхідне спрямовувати зусилля на забезпечення більш тісних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зв'язків між вищою освітою і дослідницькими системами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в кожній із країн-учасниць. Загальноєвропейський простір вищої освіти на цьому початковому етапі матиме велику користь від спільної діяльності з європейським дослідницьким простором, зміцнюючи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фундамент для Європи Знань.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Метою  є 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збереження європейського культурного багатства і мовної різноманітност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Міністри визнають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фундаментальну роль вузів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і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студентських організацій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у розвитку загальноєвропейського простору вищої освіти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6" name="Содержимое 3" descr=""/>
          <p:cNvPicPr/>
          <p:nvPr/>
        </p:nvPicPr>
        <p:blipFill>
          <a:blip r:embed="rId2"/>
          <a:stretch/>
        </p:blipFill>
        <p:spPr>
          <a:xfrm>
            <a:off x="384120" y="1773360"/>
            <a:ext cx="83264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8" name="Содержимое 3" descr=""/>
          <p:cNvPicPr/>
          <p:nvPr/>
        </p:nvPicPr>
        <p:blipFill>
          <a:blip r:embed="rId2"/>
          <a:stretch/>
        </p:blipFill>
        <p:spPr>
          <a:xfrm>
            <a:off x="401760" y="1749600"/>
            <a:ext cx="83088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3:37:27Z</dcterms:created>
  <dc:creator>Сережа</dc:creator>
  <dc:description/>
  <dc:language>en-US</dc:language>
  <cp:lastModifiedBy>sgrey</cp:lastModifiedBy>
  <dcterms:modified xsi:type="dcterms:W3CDTF">2010-09-26T20:21:44Z</dcterms:modified>
  <cp:revision>25</cp:revision>
  <dc:subject/>
  <dc:title>Болонський процес</dc:title>
</cp:coreProperties>
</file>