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A182-1C7D-44DB-8CE6-BBA494101EE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85D2-FB31-4857-9A43-100EA5991C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CF4F-32E9-43A4-9A17-A3E93B2595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F48C-D496-454B-8542-B2AE1A222A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DB46-CAD3-40E5-96F6-3906E6A816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5765-2496-44E2-8368-3420D52D0E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4A81-6AB7-427C-8215-6DA7D9FC71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AFD-05AB-4F7E-B679-3126726D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607-F932-4FB6-823F-3DAB10F3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472-CD4B-43F6-963F-3DAB2FF4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C4E-9FEB-4DFD-8F78-CE4BCF76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6B43-51FA-413B-BC84-B04550E9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19F5-04AC-42CA-A2A5-92BEB5D7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8C59-6A37-41D3-9127-304C9169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DD84-FF12-42C7-B442-409F43E1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2593-0EFB-4E28-ABEF-E114D64B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F3E1-AF06-4A37-86EC-A1FBBCDE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24F2-BFAD-485E-83C6-462D169A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4572-2BE0-4B8E-94DA-6297BEC6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EBEF-B331-4299-828A-8BF0D5B4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5EB0-10EF-4A09-940B-F363F915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B215-339B-4074-9F76-D3DC110F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77A9-CD50-4E7F-A7BE-5B939F7C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9E4A-3838-443A-B501-A25B992E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9DF-37F8-41CD-8CA3-EEC7818D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373-CF2B-4B0D-9DA2-40B5F39B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8AF-D156-4537-81BC-DE1172D1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911E-3B96-4105-804D-1D463725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D94-FE16-440D-A0B3-A4AB9E29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DDF-936C-4835-B076-AAE6DB44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EC7-0803-4CE4-B542-35144B47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1BC7-559B-4785-99B9-06A4E24AE3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10A0-4948-49ED-AA01-FCD15707E1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Європейська кредитно-трансферна систем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ECTS)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кадемія адвокатури України Магіст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Статистика розподілу успішності студентів у європейських ВНЗ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84360" y="2349360"/>
          <a:ext cx="6264360" cy="3754440"/>
        </p:xfrm>
        <a:graphic>
          <a:graphicData uri="http://schemas.openxmlformats.org/drawingml/2006/table">
            <a:tbl>
              <a:tblPr/>
              <a:tblGrid>
                <a:gridCol w="3200400"/>
                <a:gridCol w="3063960"/>
              </a:tblGrid>
              <a:tr h="94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ідсоток студенті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цінка успішност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мін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же добр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овіль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нь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Співвідношення оцінок 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CTS </a:t>
            </a: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та рейтингових балі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438280" y="1600200"/>
          <a:ext cx="6400800" cy="4808520"/>
        </p:xfrm>
        <a:graphic>
          <a:graphicData uri="http://schemas.openxmlformats.org/drawingml/2006/table">
            <a:tbl>
              <a:tblPr/>
              <a:tblGrid>
                <a:gridCol w="1197000"/>
                <a:gridCol w="1224000"/>
                <a:gridCol w="2592360"/>
                <a:gridCol w="138744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% сту-дент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цінка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изнач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йтин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мін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же доб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-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ові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ньо (мінімальні вимоги модул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ньо (потрібна додаткова робот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ньо (повторне вивчення модул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Розподіл кредитів у двоступеневій системі освіт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упінь бакалавра – 240 кредиті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упінь магістра – 360 кредиті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навчальний рік – 60 кредиті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семестр – бл. 30 кредиті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Співвідношення кредитів та навчальних модулі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39640" y="1989000"/>
            <a:ext cx="64990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заліковий модуль* = 1 кред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кредит = 36 акад. г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дуль складаю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удиторні занятт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амостійна ро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дивідуальна ро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Заліковий модуль може складатися з кількох змістових модул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Розподіл годин у модулі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удиторні заняття – 18 г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іввідношення лекцій та семінарів – не нормує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амостійна робота студента та індивідуальна робота зі студентом – 18 г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Рекомендовано – 50:5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1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6:45:34Z</dcterms:created>
  <dc:creator>Сергей Гончаренко</dc:creator>
  <dc:description/>
  <dc:language>en-US</dc:language>
  <cp:lastModifiedBy>sgrey</cp:lastModifiedBy>
  <dcterms:modified xsi:type="dcterms:W3CDTF">2010-09-26T20:22:51Z</dcterms:modified>
  <cp:revision>4</cp:revision>
  <dc:subject/>
  <dc:title>Європейська кредитно-трансферна система (ECTS)</dc:title>
</cp:coreProperties>
</file>