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889E-0071-45BD-9A32-3990F2258D6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DA9A-18B9-4570-A0F1-F9B19C440E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F8EF-BF66-4009-B36C-E192B5BDDE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45AB-0A09-40E3-88C1-A0876B1C0A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CBAF-51E1-40D3-83B7-4465410B7C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BE1F-C825-4EFF-A7B1-CDF5D86D30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A3E9-F635-4C00-A477-3E6A60A519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AA0-691D-49DA-BAFF-F98A3147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A63-7AF0-4700-800F-26C5C4E4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D2D-FEB5-4F07-AF7F-06DD2660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E35-5FD5-48BD-B032-EC1801FB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4BA2-ADAF-4A90-AD9C-D22D9034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5DD4-7A7D-4151-B44F-5F0FC146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8372-01BB-457C-8961-E5853754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015E-BCF7-4AF7-B694-D8B86D26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C2A4-318E-43D4-9651-6A9F5D58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A1A1-18C9-493F-B938-3D046428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C152-43B7-4EED-A006-3758F0F2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3FB-DE4D-4232-B9B8-F4BA9ED4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F7A4-A852-461F-888A-38537A11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EF08-E5A9-43B4-940A-0C211A5D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631F-79B9-4B81-A647-E8945579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D6FA-2CE1-479C-90EA-CCE4D900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4E06-271D-4459-89AD-7972B72E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8C2-2063-4702-ABA2-E0E457E9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815-463B-409E-9DD1-0A9BA3CA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7CF-4B49-4C7A-821F-B931FFA9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BE9-D482-4BA4-A7B8-0A313369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382-3126-4AD3-9F20-D76B440C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7B7-4E17-42B4-B092-8C1E48E5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56A-7675-4181-B970-C4E4F73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33B5-4B71-452D-A49F-E5DF92D412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BF8F-02E8-4EFE-9643-0FDCFFDD31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Європейська кредитно-трансферна систем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ECTS)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адемія адвокатури України Магіст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Статистика розподілу успішності студентів у європейських ВНЗ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84360" y="2349360"/>
          <a:ext cx="6264360" cy="3754440"/>
        </p:xfrm>
        <a:graphic>
          <a:graphicData uri="http://schemas.openxmlformats.org/drawingml/2006/table">
            <a:tbl>
              <a:tblPr/>
              <a:tblGrid>
                <a:gridCol w="3200400"/>
                <a:gridCol w="306396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ідсоток студент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цінка успішност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мі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е доб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ові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нь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Співвідношення оцінок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CTS </a:t>
            </a: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та рейтингових балі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38280" y="1600200"/>
          <a:ext cx="6400800" cy="4808520"/>
        </p:xfrm>
        <a:graphic>
          <a:graphicData uri="http://schemas.openxmlformats.org/drawingml/2006/table">
            <a:tbl>
              <a:tblPr/>
              <a:tblGrid>
                <a:gridCol w="1197000"/>
                <a:gridCol w="1224000"/>
                <a:gridCol w="2592360"/>
                <a:gridCol w="138744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% сту-дент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цінка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изнач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йтин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мін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е доб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ові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ньо (мінімальні вимоги модул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ньо (потрібна додаткова робо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ньо (повторне вивчення модул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Розподіл кредитів у двоступеневій системі осві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упінь бакалавра – 240 кредиті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упінь магістра – 360 кредиті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навчальний рік – 60 кредиті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семестр – бл. 30 кредиті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Співвідношення кредитів та навчальних модулі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39640" y="1989000"/>
            <a:ext cx="649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заліковий модуль* = 1 кре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кредит = 36 акад. г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уль складаю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удиторні занят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амостійна ро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дивідуальна ро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Заліковий модуль може складатися з кількох змістових моду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Розподіл годин у модулі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удиторні заняття – 18 г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іввідношення лекцій та семінарів – не нормує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амостійна робота студента та індивідуальна робота зі студентом – 18 г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Рекомендовано – 50:5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1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45:34Z</dcterms:created>
  <dc:creator>Сергей Гончаренко</dc:creator>
  <dc:description/>
  <dc:language>en-US</dc:language>
  <cp:lastModifiedBy>sgrey</cp:lastModifiedBy>
  <dcterms:modified xsi:type="dcterms:W3CDTF">2010-09-26T20:22:51Z</dcterms:modified>
  <cp:revision>4</cp:revision>
  <dc:subject/>
  <dc:title>Європейська кредитно-трансферна система (ECTS)</dc:title>
</cp:coreProperties>
</file>