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DAB-2C3E-46D3-A8A9-B59A369AD7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E4A3-6DE0-4969-AD6B-FDD784DC1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7A1-FB3D-42D3-8009-69DDE5CB9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79DC-780A-4E03-84DA-7F13A75553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F444-4D1B-43FC-9AC8-97EF6D703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7D7-DABC-4DD8-B5B4-F32C899573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B429-2521-4F5D-A091-D20EFC92F8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8A0-D8B3-4A3A-B907-E76E8985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34A-8267-470D-A3B6-0D9D09A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E16-9E71-494C-8E3C-EA9B008A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B08-35CE-493A-94A5-3ECA9DDE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27D1-950A-4E93-AA83-C1B21B31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FBE-25CB-4EF0-A9A4-0EC63A22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4C90-FD35-41A3-84DF-161A22B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7F24-B795-45FE-A375-9A764A8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889E-B39C-4884-B9A2-F0382A9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3A2F-DFA8-4185-8162-3E6D72D1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A13-568E-429D-A125-FDFCE7B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7E2-30B0-4C83-A2C5-183B6890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E89D-00A7-4238-BC8E-CA0B16F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EC99-0E7A-45BB-B2F7-5A98BBB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3212-7A00-481A-B809-ECB7E74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60F-6938-4C4F-AEAA-A64EFD6E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13A-6F1E-48BE-B582-D70F134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DAD-7B7D-4B3F-BD3F-8171ED4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7D9-7462-4EB6-86E2-3EC816F7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A0D-D0D4-4812-ACA8-97B8B481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B37-C5BA-4212-91FB-C717B64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189-16E5-44C2-B997-E8EB70A0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3A3-86BE-4DDF-B20C-1EEC1FE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6B5-B6CD-4F1E-A367-2497656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3EF-EB8A-4BD2-8881-BCF355B037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D1D8-AC14-46F6-9C02-C8281E2624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Європейська кредитно-трансферна систем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ECTS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адемія адвокатури України Магіст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татистика розподілу успішності студентів у європейських ВН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84360" y="2349360"/>
          <a:ext cx="6264360" cy="3754440"/>
        </p:xfrm>
        <a:graphic>
          <a:graphicData uri="http://schemas.openxmlformats.org/drawingml/2006/table">
            <a:tbl>
              <a:tblPr/>
              <a:tblGrid>
                <a:gridCol w="3200400"/>
                <a:gridCol w="30639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ідсоток студен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успішно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оцінок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CTS </a:t>
            </a: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та рейтингових ба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1600200"/>
          <a:ext cx="6400800" cy="4808520"/>
        </p:xfrm>
        <a:graphic>
          <a:graphicData uri="http://schemas.openxmlformats.org/drawingml/2006/table">
            <a:tbl>
              <a:tblPr/>
              <a:tblGrid>
                <a:gridCol w="1197000"/>
                <a:gridCol w="1224000"/>
                <a:gridCol w="2592360"/>
                <a:gridCol w="13874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% сту-дент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знач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йт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 (мінімальні вимоги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трібна додаткова робо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вторне вивчення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кредитів у двоступеневій системі осві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бакалавра – 24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магістра – 36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навчальний рік – 60 кредит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семестр – бл. 3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кредитів та навчальних моду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649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заліковий модуль* = 1 кре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редит = 36 акад.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уль складаю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удиторні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ивідуаль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Заліковий модуль може складатися з кількох змістових моду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годин у модулі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удиторні заняття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іввідношення лекцій та семінарів – не норму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амостійна робота студента та індивідуальна робота зі студентом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Рекомендовано – 50: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45:34Z</dcterms:created>
  <dc:creator>Сергей Гончаренко</dc:creator>
  <dc:description/>
  <dc:language>en-US</dc:language>
  <cp:lastModifiedBy>sgrey</cp:lastModifiedBy>
  <dcterms:modified xsi:type="dcterms:W3CDTF">2010-09-26T20:22:51Z</dcterms:modified>
  <cp:revision>4</cp:revision>
  <dc:subject/>
  <dc:title>Європейська кредитно-трансферна система (ECTS)</dc:title>
</cp:coreProperties>
</file>